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EFA-C908-4A74-82E0-4742246D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35C2-DF8B-4932-AF90-C649E812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5EF-7F36-4668-9603-2E7DA97E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223-C442-45EC-9402-71CB8028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A09A-2613-4759-BE17-2550739D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4C46-DF73-40D7-81EC-0F563C2D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D80E-D220-4DC4-80BE-BC24D9A5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1952-1551-415A-A6B1-2D037598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F24C-D6E5-4EDE-8B18-A6B9E9EF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76F3-FDC8-4DD3-8172-7AD15998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20A7-9DDB-4FE0-9C48-3CBB7C1A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F8D-62FC-4057-8B42-D6753739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9FD6-0EEE-4F19-BBDB-3216DF3A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4F43-327C-4498-A63E-63365154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B027-C1C4-4490-BDFC-7EAE29A2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87BE-9516-4F00-BCE3-8EBD4A7E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05DF-E0F0-43D8-BC6C-BC340B03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598-0626-40EE-B7D8-22A71D29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4E8-6B54-495F-AC1F-2F4367BA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93B-17A2-4127-A06F-188AB99D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062-4B50-4383-888E-1B26E753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C50-3A7C-49B5-8BF0-772CB1A9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8BD-4105-42B2-A225-1D47866D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A17-EBE1-41AA-AADC-42217D93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D2E9-09E4-40B9-8A11-7A62522E4C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E479-D59C-4972-A030-40BDC2C1C4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Word Ladders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econd Gra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2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king -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6   Week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Kristi Wal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deli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 should have spell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deli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85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d four letters at the end of deli to make a new word for something that is dainty or breakable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1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700" spc="-1" strike="noStrike">
                <a:solidFill>
                  <a:srgbClr val="000000"/>
                </a:solidFill>
                <a:latin typeface="Arial"/>
              </a:rPr>
              <a:t>delicate</a:t>
            </a:r>
            <a:endParaRPr b="0" lang="en-US" sz="1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 should have spell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1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7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167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n-US" sz="16700" spc="-1" strike="noStrike">
                <a:solidFill>
                  <a:srgbClr val="00ff00"/>
                </a:solidFill>
                <a:latin typeface="Arial"/>
              </a:rPr>
              <a:t>ic</a:t>
            </a:r>
            <a:r>
              <a:rPr b="0" lang="en-US" sz="167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6700" spc="-1" strike="noStrike">
                <a:solidFill>
                  <a:srgbClr val="00ff00"/>
                </a:solidFill>
                <a:latin typeface="Arial"/>
              </a:rPr>
              <a:t>e</a:t>
            </a:r>
            <a:endParaRPr b="0" lang="en-US" sz="1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0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ake away the highlighted letters in delicate and use the remaining letters to spell a word for a simple story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tale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 should have spell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tal</a:t>
            </a:r>
            <a:r>
              <a:rPr b="0" lang="en-US" sz="19300" spc="-1" strike="noStrike">
                <a:solidFill>
                  <a:srgbClr val="00ff00"/>
                </a:solidFill>
                <a:latin typeface="Arial"/>
              </a:rPr>
              <a:t>e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6840" y="10663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rade the highlighted letter for an i and scramble the letters to make a homonym for tale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 should have spell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9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 a letter to tail to make a word for a pathway that you might hike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trail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 should have spell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0"/>
            <a:ext cx="75438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You’ve just gone from hiking to trail in nine words.</a:t>
            </a:r>
            <a:r>
              <a:rPr b="0" lang="en-US" sz="6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Arial"/>
              </a:rPr>
              <a:t>Way to go!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MCj04160340000[1]"/>
          <p:cNvPicPr/>
          <p:nvPr/>
        </p:nvPicPr>
        <p:blipFill>
          <a:blip r:embed="rId1"/>
          <a:stretch/>
        </p:blipFill>
        <p:spPr>
          <a:xfrm>
            <a:off x="2286000" y="3962520"/>
            <a:ext cx="3745080" cy="27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n the bottom rung of your ladder spell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7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hiking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644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nge the suffix of hiking to make the past tense of hike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hik</a:t>
            </a:r>
            <a:r>
              <a:rPr b="0" lang="en-US" sz="19300" spc="-1" strike="noStrike">
                <a:solidFill>
                  <a:srgbClr val="00ff00"/>
                </a:solidFill>
                <a:latin typeface="Arial"/>
              </a:rPr>
              <a:t>ing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hiked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 should have spell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644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hange one letter in hiked to make a word that means someone felt good about something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hiked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 should have spell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rop one letter from liked and make a word for having been untruthful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lied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 should have spell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300" spc="-1" strike="noStrike">
                <a:solidFill>
                  <a:srgbClr val="000000"/>
                </a:solidFill>
                <a:latin typeface="Arial"/>
              </a:rPr>
              <a:t>lied</a:t>
            </a:r>
            <a:endParaRPr b="0" lang="en-US" sz="1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20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ramble the letters in lied to make a word for a shop with lunch meats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2:08:58Z</dcterms:created>
  <dc:creator>Jefferson County BoE</dc:creator>
  <dc:description/>
  <dc:language>en-US</dc:language>
  <cp:lastModifiedBy>teacher</cp:lastModifiedBy>
  <dcterms:modified xsi:type="dcterms:W3CDTF">2011-04-18T14:17:04Z</dcterms:modified>
  <cp:revision>6</cp:revision>
  <dc:subject/>
  <dc:title>Word Ladders First Grade</dc:title>
</cp:coreProperties>
</file>